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536-FDAE-42A8-B65C-3E1772B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3D2-7260-46ED-BD20-6E5C2ECC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B71-999E-43BC-8662-7A907A69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DA92-C376-486F-A926-F9790423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4CC-DDDA-4D9E-9E16-ABCCEC97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9E9-6702-48A6-A215-B6BE3C7A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6167-E05C-41F2-ADEA-21C8F1B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C7BB-63E3-4762-88F7-C79A31C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969-7FF5-4A38-A036-9A4D2B47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E5F-0897-4CC5-AB9F-43525EE9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CD95-6B1C-4743-BBCB-193B19C7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052-C4E7-4D4A-A84D-4255DAA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DAC-851F-4D6E-B542-343FF69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E84-C6A2-42CB-A2AA-AACAC8D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907B-94EB-48B2-BB37-A99544D6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23A7-840A-4729-9C56-556768CB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DF73-BC86-420F-AEB9-72663CB8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ED5-F75B-4163-868F-40B855F2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822-0528-4498-B7C9-7E1F65BD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EC1-1EA5-47BC-BC31-55CC50F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FD1-B3CB-4563-B2D0-39322BE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13C-C34B-49F9-82D7-01B04D1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6C5-8B37-4164-BD07-43598B6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926-CACD-4860-B696-519FDFC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17F1-9F7A-45B7-8F67-8A1C7E624B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C61-5D31-45B9-A83D-14900E6B5D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High Tower Text"/>
              </a:rPr>
              <a:t>Creating 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High Tower Text"/>
              </a:rPr>
              <a:t>Presentation 1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igh Tower Text"/>
              </a:rPr>
              <a:t>(some tips for you and your grou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know your STUFF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If you don’t understand neither will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Lack of knowledge &amp; prep is horribly OB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Poor preparation = more anxiety and bad gr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Impossible to explain or answer question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ake over for an ill-prepared or faltering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Audience will be annoyed &amp; bored; lose resp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Wastes students’, teacher’s, and you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sound like you MEAN I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ppear like you actually care about cont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Speak with conviction &amp; confide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you mess up, no one will likely not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 NOT simply read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Make eye conta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Respect your audience &amp; subjec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Care enough to be clear &amp; comple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ve a CONCLUSION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on’t just STOP; prepare a conclu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ummarize key poi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mphasize concepts, goals, outcomes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ovide a closing though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Give audience a reason to keep ca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Review material in a fun, light wa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THE END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conclude like me.  See how lazy I seem?  Do you even remember what this presentation was about … really?  Wouldn’t a refresher be nice right about now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hat’s why endings are import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JUST STOP; have and 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On Presentations in General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Know your purpose: read the rubric!  How can you do well if you don’t know what to do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Rehearse, rehearse, rehearse: practice your presentation and time yourself.  It’s easy to go way over or under time if you don’t practice.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igh Tower Text"/>
              </a:rPr>
              <a:t>More on Presentations in General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ccept nervousness as part of the proces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It’s natural; use the energy positiv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Look at your audience and speak slow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Probably no one knows you’re nervous except you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Remember: no one here wants you to f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igh Tower Text"/>
              </a:rPr>
              <a:t>Audience feels nervous too— we all feel the s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On PowerPoint Presentations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n’t put too much on slides—hard to follow!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Allow audience to listen (not read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Put key notes/points only on slid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Save words for spoken explan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nclude only necessary im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Keep slides simple &amp; ne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MCj04405710000[1]"/>
          <p:cNvPicPr/>
          <p:nvPr/>
        </p:nvPicPr>
        <p:blipFill>
          <a:blip r:embed="rId1"/>
          <a:stretch/>
        </p:blipFill>
        <p:spPr>
          <a:xfrm>
            <a:off x="6248520" y="4038480"/>
            <a:ext cx="16160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Know your AUDIENC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do you need to explai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can you assume they know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What do they have in common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How are they different?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they don’t respond, change strate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Give them reason to trust you and listen to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have an INTRODUCTION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Begin with an overview of content &amp; purp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nect with audience; get them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onsider their interests, knowledge,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Do NOT rely on volunteers—offer incentives for particip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igh Tower Text"/>
              </a:rPr>
              <a:t>have a Clear STRUCTUR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Arrange points logically; each adds more mea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Start simple and move toward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Put titles on your sl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Keep text &amp; images at a 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High Tower Tex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Rely mostly on your spoken explan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 interesting CONTEN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If you’re bored by it, audience will be to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Use audio &amp; visual support if possib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Do not rely on outside stuff (videos, etc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Find a way to make it fun &amp; act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igh Tower Text"/>
              </a:rPr>
              <a:t>Use strange, surprising examples &amp; comparisons to create energy &amp; inter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igh Tower Text"/>
              </a:rPr>
              <a:t>include clear TRANSITION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on’t jump from point to point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ake time to link ideas; explai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Explain connections &amp;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Use transitional words &amp;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2:17:57Z</dcterms:created>
  <dc:creator>Leah</dc:creator>
  <dc:description/>
  <dc:language>en-US</dc:language>
  <cp:lastModifiedBy>Leah</cp:lastModifiedBy>
  <dcterms:modified xsi:type="dcterms:W3CDTF">2011-07-14T19:44:12Z</dcterms:modified>
  <cp:revision>29</cp:revision>
  <dc:subject/>
  <dc:title>Creating  Presentation 1</dc:title>
</cp:coreProperties>
</file>